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DEE-68BD-44C8-938F-7A57B154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8FE-1C84-4473-89D4-E1BCA54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3A5-29FA-475A-961D-7C76A8A9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1AA-60D8-49A2-89AB-A631367E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E3C-FFD2-4A42-BDB3-43050F8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B35-F1FC-424D-B008-93FD63F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45F-04F3-4FB4-B6AE-82BE6F2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C68-1A50-4A73-A285-3D5977F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158-86BB-4485-B821-23BE88C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014-968C-4382-B091-011B821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006-6237-4E4C-A0AA-4B0F204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13C-0257-4680-A7B8-D675272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552-40A6-4892-B7C5-38D3645B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ce.k12tn.net/survival/hatchet/hatchet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ch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717560" cy="2819520"/>
          </a:xfrm>
          <a:prstGeom prst="rect">
            <a:avLst/>
          </a:prstGeom>
          <a:ln w="0">
            <a:noFill/>
          </a:ln>
        </p:spPr>
      </p:pic>
      <p:sp>
        <p:nvSpPr>
          <p:cNvPr id="44" name="Tree"/>
          <p:cNvSpPr/>
          <p:nvPr/>
        </p:nvSpPr>
        <p:spPr>
          <a:xfrm>
            <a:off x="457200" y="533520"/>
            <a:ext cx="2286000" cy="22096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re, number of pages,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fiction and 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9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- forest/ woods/ Canada in the presen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summaries and onlin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e.k12tn.net/survival/hatchet/hatchet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an Robe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12-14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ew York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div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400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2437920"/>
            <a:ext cx="27432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4382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8328800">
            <a:off x="2965320" y="38163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846600">
            <a:off x="4982760" y="3625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tchet- Story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and Attempts to solve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- what happens in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is flying to Canada to see his dad and the pilot has a hear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 crashes Brian is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Brian tries to solve hi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n must survive on his 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uilds a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uses hatchet to make sp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s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bows and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tries to reach th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or’s Messages/Them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he 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teachers hope we have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more independent so that you will be mor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utside the box to solve you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o never give up even when there seems like there is no h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 4.5 out of 5 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sons for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Paulsen’s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d different examples of good luck and bad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d the layout of all the bad things that happened to B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nt too fast and you’d have to back up and reread to make sure you knew what wa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 from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 put in a f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xth graders going to Coolidge and Park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who like adventures, who like camping, or outdoorsy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ke books that don’t have a lot of characters to keep track of (since the story is really all about Brian dealing with himself and his own fee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3:39:56Z</dcterms:created>
  <dc:creator>hsellers</dc:creator>
  <dc:description/>
  <dc:language>en-US</dc:language>
  <cp:lastModifiedBy>hsellers</cp:lastModifiedBy>
  <dcterms:modified xsi:type="dcterms:W3CDTF">2011-08-24T14:36:13Z</dcterms:modified>
  <cp:revision>3</cp:revision>
  <dc:subject/>
  <dc:title>Hatchet </dc:title>
</cp:coreProperties>
</file>